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440-C31D-4931-85E3-159305C7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DEE-EA0F-47E1-8278-31169278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F3A-0620-449B-AD66-2C0B7D00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5B9-3F81-42F3-8A41-D1C6130A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4C8E-C459-4A60-9F01-50D41A79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6FAB-D2A3-4DEF-86A1-65DD7A91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FB88-3781-4BC9-A257-7A99B77F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9E4A-E5B1-45A6-B98B-E08AEE0F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CA0A-2034-415D-B057-C93884AE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A813-1B84-4CC3-A0FC-C180F5BE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48DB-6A73-4DDF-9AE4-1644A0AF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4A6-78F7-4599-A15A-E4BF318A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F28D-A12E-46E5-8F9A-C8568E07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EA8A-FCAA-4F08-90D2-C9E34CFC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E857-4B1C-4031-A552-BFC52364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8ED6-94DC-42DA-9853-E14370F3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F656-0AF0-4B29-930B-8E130D14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50FA-C827-4724-85D5-623C61CA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D34C1-8CC5-43EA-91A7-A1C89691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17FD-D761-45CB-A408-2142812D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75F2-12C7-4BBB-AD5A-0608ADAB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441B-AFA0-45B1-B39C-FD307987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AD3-1A2E-460E-ACF1-3BDA8563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51C35-0B49-4657-BB42-E5AD0551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878A6-6B6E-44CE-B6EB-905ED69D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267C-CE66-45A8-8FA3-16F11BA4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A8ED6-B227-404E-80C0-E8C14520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1686-4136-4847-B02E-9F7520D3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5AAF-CD66-4D2E-98F6-634D3A09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4A742-62E3-458B-BFE6-CDDA8955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70209-E743-435F-9DAB-1E5077FE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9DFF-1191-4432-837E-857735F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A895-E7DD-46D2-B74E-DE82C214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DC7-7756-41C1-9FB4-55FA7081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9CAE-282E-480E-9EB2-77718A56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186F0-9BE8-448B-A1F8-11A84FA9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9DE1-DAF8-450D-B671-193E2968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43E0-3037-402D-AF8A-09CC8EDE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6BF1F-2978-44E3-82B3-0DE6108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2269B-A9D3-40AE-B532-8D0D2DC4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B7B49-4106-471B-9B03-E1545C5F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3DE2-620C-4CAD-AB60-C5561526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A133A-89D9-46FA-A370-5EB097A0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71174-E963-4E49-852F-136CCF0E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F45-9CDE-48FB-A978-2C62576B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CEE0-065C-410C-851D-7930AC1C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C1E31-6E69-40B9-BE90-B38B8DA2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60FA-1908-477B-8DFD-ED2A7E1B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4A278-1DE8-408D-984A-A526BDE5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E9EF1-BE5F-40E3-B642-2DF66D8C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9471B-A1AC-45A6-9D8F-41FDA2FD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EBC78-A0E6-4A0F-BF5D-D282512D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C02FA-3D09-498F-B9BF-F12B32E4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C52FB-C25B-4FD7-9BA3-AB33A022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CD96D-8B8F-4EE7-A291-6D4F09A5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58A-7298-4FD7-9AE0-354BDC44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302E8-2227-40C1-8DA6-78897E0A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724B9-08F9-4832-AEFC-2C1373EA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CC435-B5B0-40D9-990E-048BD2C0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CA807-2898-4344-B62C-E07E42A2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1BAD9-6006-4A8B-B275-759F5007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96B79-925A-4048-AD6E-4D984CEC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87881-7A7E-4305-9E2C-016F735A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AB090-B394-4608-9E24-001AC177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CD045-1964-4C76-AAB9-BB988395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DB86B-4AF1-4628-A829-C95B6EBE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427-7ADC-4949-81CF-3613DC35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26627-935D-47E4-9525-AA58A0C5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A9DD8-D3C0-4C13-BD76-DAFC81ED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5A5F3-AEA6-4AD2-BF94-860AFAB4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F6346-79D7-4B81-8987-37E3D196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236CD-28C6-4DD0-BB12-8F0F22C3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91A18-1E0E-41B1-B555-E0C1B163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2DA8C-73A2-4CD8-A17F-B5CA162A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F2A53-5AEE-4D8D-8D9D-AA90E8A5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374DD-BD61-4FB3-AB5C-0476EA54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9CE70-FFF0-41F8-8332-683E3407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082-FF09-42E2-9107-BBF246A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B7D5A-F64C-474B-9B6E-1F82535C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B9B17-A66B-472F-B736-A8B0A758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E5BF3F-D112-4FA1-9B6E-881BB873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56006-CFA6-4A70-AD4A-3BD6F570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092A6-C21E-4CC0-8B93-E4F6D983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6DA77-A494-4480-9708-041C2B05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9D178-FE2E-4B5A-A08E-0ACD3DCB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F20F7-F3D6-4730-B464-27D5C5FD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A2529-E42E-4A76-A80A-B37489D0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C50C9-174C-4A1C-BC27-F205E124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5CE-1D23-47BE-A274-981DC9A5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1571E-AE45-4B1E-8D4C-5FE0FC23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710DF-4D3A-418E-9BBA-7AE97BF1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71305-9A05-44F2-A8CA-3153A6D4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AFF0E-08EB-4C2F-A22A-9660C97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B5E17-A66A-4B25-8C35-C140549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F2792-9E42-4DC8-8A1C-3149E80C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FB08E-3C6F-4F52-BD39-B22E7EAA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AA9B-E574-47B3-B095-A766A7E8DC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8119-2880-4C9C-B2A9-8AB835CFE1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f5f5f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77ED-6938-4167-85D2-BBB8D71069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7D00-7F8D-454C-A6AE-37354D9FEE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03E6-7D94-44A6-8EA1-D0E79D5270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8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9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16DE-F9C0-41E0-8C6B-60C72579A3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595F-7629-4199-91EA-A8568507C7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5A7C-6B7B-4CD4-A3E5-0A26FED214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f5f5f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mall Business Probl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5f5f5f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. Staffing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ONTRACTS AND BIDS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Arial"/>
              </a:rPr>
              <a:t>POSSIBLE SOL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The prime must show probable cause to the state before being allowed to drop the subcontra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Payment issues would be dealt with if prime sent ACH payment to sub within 48 hours of their receiv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Create programs to bridge short term financial needs while waiting for payment from pr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Have a living wage bid where the state dictates pay 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ny Questions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split dir="in" orient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47960" y="228240"/>
            <a:ext cx="4190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ecff"/>
                </a:solidFill>
                <a:latin typeface="Arial"/>
              </a:rPr>
              <a:t>PRIVATE SECTOR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Many companies merged after 9/11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Maryland’s large corporation base is shrink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136600" y="533520"/>
            <a:ext cx="259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ecff"/>
                </a:solidFill>
                <a:latin typeface="Arial"/>
              </a:rPr>
              <a:t>SHRINK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7,27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7,27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7,27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7,27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6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4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6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 H R I N K I N G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 PRIVATE SECTOR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09680" y="1447920"/>
            <a:ext cx="64771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or corporations have binding contracts with national and international staffing firms and are not using small firms such as Staff Quest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se of opportunity for new business is sma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 H R I N K I N G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 PRIVATE SECTOR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IBLE SOLU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small businesses and MBEs gain access to decision mak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state incentives such as tax credits for corporations that set aside a certain percentage of opportunities for small businesses and MBEs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3c4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 small businesses and MBEs advanced notice of new business coming into Maryla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STATE PROGRAMS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 Maryland Marketp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ct Week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or’s Mentor Protégé Progr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Business Reser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have the wrong NAIC or product descriptions in the database, you don’t get opportunit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TATE PROGRAM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UL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are not really computer savvy, it’s difficult to naviga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is not straightforward. The MD Lottery bid for temps was under “Scientific Games.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ice for winning a bid is prohibitiv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omeone in procurement inputs the word “employment,” and your company’s description uses  “temporary staffing” instead, there’s no matc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3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3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3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3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3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3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3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3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3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3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3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3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Arial"/>
              </a:rPr>
              <a:t>STATE PROGRAMS</a:t>
            </a: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SSIBLE SOLU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small businesses connect with prime companies looking for subcontractors in their disciplines. For example, how do you find companies looking for temporary help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site needs to list opportunities by discipline or bid amount for easier navig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you receive your MBE, one person is assigned per industry as a personal mentor to help navigate opportunities and grievanc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imes New Roman"/>
              </a:rPr>
              <a:t>CONTRACTS AND BIDS</a:t>
            </a: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es are dropping subcontractors without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ompt payment from primes to subcontra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st bid: who really wi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ONTRACTS AND BIDS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cc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ier Technologies used Staff Quest to get a state contract with Child Support Services. Staff Quest was dropped without cause the day the five year contract, worth $964,702.00, was to st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If receivables are not timely, it becomes a hardship for self funded busines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Bids are being won by companies that focus on the bottom-line over quality and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33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33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294" dur="1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95" dur="1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30:48Z</dcterms:created>
  <dc:creator>twashington</dc:creator>
  <dc:description/>
  <dc:language>en-US</dc:language>
  <cp:lastModifiedBy>twashington</cp:lastModifiedBy>
  <dcterms:modified xsi:type="dcterms:W3CDTF">2006-02-23T18:33:09Z</dcterms:modified>
  <cp:revision>19</cp:revision>
  <dc:subject/>
  <dc:title>The Small Business Problem</dc:title>
</cp:coreProperties>
</file>